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FD51D-09EB-40C8-809E-775454FBC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8FC3B-118C-4DFE-B19E-4FFB9A0FD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118FE-47FB-4844-95F2-F50E67BD3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1F6D1-C6C8-4D3B-BA0B-0D4EB6CB9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C31EF0-1AC6-44C3-8B0E-4F13481AA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E71E1-32B4-415D-99B7-5893B1E89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4B938-573E-45D1-8801-175E372A5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A7041-BD3F-4D9B-AB35-6A914A971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7F76E-47A3-4CE1-9211-B7413AB2F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608D7-60A6-4516-A5D2-F4E632057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F8FB8-146B-434E-B3D9-0E105DA62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802D6-E6B4-49DB-8B49-A30A40769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00415-65B7-4ADE-B654-2E2DF825F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B16FF-5C45-42AE-9AF4-E0843E732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0A702-F5EF-4EF5-8EAA-FD6E99741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8CA65-50A5-4038-A901-7B1B04985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CD103-DFEB-48C5-BD42-7075BF863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EA6F9D-89F2-42A5-A540-8C2FA84B8A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12E0CB-8EC6-4F12-B8CF-15DD5B225D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F4565F-01F8-4F19-80CD-AC3B12EC41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516BEB-300A-4E8F-B472-8A9408CCE2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49EB41-AC61-4BB6-841E-7587246681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392DA-DD6C-4D94-A2D1-C58E4A664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41BEC-A346-427A-840E-CB1716F069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9D6D0A-5F29-4DAF-A434-B756E60B1E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2468C-18E7-4860-8BB6-552E937B6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A2B10-F441-4EEB-AE16-DCFDB1AF5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5F723D-BE22-4816-9B7D-4AEC708526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BA54D7-C043-4782-BAEF-300AA5CF9B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05E741-710F-44C4-9359-A8CD792562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46C0EB-37AB-4F58-B394-1B107C418E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3575AA-FA51-4855-945F-3C45EE7B78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440753-A4E6-43B7-AB22-4536F03552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EA667-D506-44CD-A72A-A53286E89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45C68B-6DAA-4360-8F81-F368D99177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FC69D1-FB0F-4603-BCA0-9B2BB37783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59F231-EDEA-4638-9BCF-FF852ED5B5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241CB-AAEF-4BC8-ACE6-17CB0B8B0F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264A10-D817-4826-A4E5-B1E0E6E52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630A9-61A7-4B20-B617-E6751C1401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6CD2A2-4469-46C5-92E4-FF3A02798C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BA5E57-1096-4E9A-B355-0395EFF387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B05C32-9C41-4F1D-A3B1-B4D0D91B0A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57A42B-BC8C-4A7C-A359-A9A3CEDDA5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FE941-39A7-421B-BDE0-17F3B1D54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CA3E38-4C01-4D3F-8022-12765175DA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879E57-673F-4649-A4D8-B4127CA202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34E4ED-DA09-4A49-8FFE-6A640551A1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31BE5E-341E-4BFE-8F3C-EF8AADEFAF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4CBADA-BDC7-440B-AA52-0827433D10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876E74-C6D0-4259-8DED-2C4BCF08A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20414D-2E39-4358-8AC9-401C1C900B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1DC2F1-B7AB-49DE-85DA-75D9DC7836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B0D061-6B20-4ED1-AFDD-FA0A4AEC69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2222D2-5C8D-4325-A403-858D50EE20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BAEE3-04A8-488E-857E-621764C33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AEEF0D-C3E9-4AB6-A415-E7B164B7B9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66E3E0-5FDA-4A93-99F6-9FB7F2B525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9D5670-1066-48A1-AFEB-98E8C2E702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C9E845-FA34-44C7-BA7A-18AF452063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D6EB4C-2E01-4177-B6E6-7776D554D1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2F10CC-0DF3-4A35-AAA8-320559CA61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F9358D-B070-4741-B93C-48587788FE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0E0665-59C6-4FCD-A813-362450CD21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E3ADC5-B68B-490D-B30D-5884928BE3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9846BD-DBEC-47A8-8A4C-18774E4D5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42B7F-DAF0-4444-8E0E-DCAC2B685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B89C50-15A7-42EB-8678-B2B420E4BB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2F0E6E-D4D0-46B4-9E1F-B44B5DDB0F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8FF5D7-6EEC-47D6-9250-8A03AF5064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CB467D-4D11-4192-A863-CD91595739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A789CE-ABAF-40AA-B92C-8B2EC5BEEA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F34966-FEF5-4AB5-A867-D0714788A9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E4C2C2-BCAF-4ED6-A329-EEDCE49B7F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30A111-5627-4457-AE0A-F980948BAC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93CB35-2AAC-450E-8329-872E5B98FF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E7109F-A6BF-481F-9494-DEB740AB2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130B7-04C7-408E-9763-806C0402A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F5B9A8-6F20-49B3-9C44-129F4A34A9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D91191-AC9C-4813-9897-E48AB78E00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B83AB1-D3A9-4C0F-8415-2FA8D22B5A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A14FE3-0D22-4E8E-B19B-217D60290C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357F0B-DBEB-43A9-B20A-EF1EA1A5E2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E8B14-2470-4AEE-9BCA-2F7004E20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Corbe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F818-E052-4175-82D6-FB75F58C83A0}" type="slidenum">
              <a:rPr b="0" lang="en-US" sz="1200" spc="-1" strike="noStrike">
                <a:solidFill>
                  <a:srgbClr val="3f3f3f"/>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Corbe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4B5C-954D-48AF-AA6F-25AFD55FDC28}" type="slidenum">
              <a:rPr b="0" lang="en-US" sz="1200" spc="-1" strike="noStrike">
                <a:solidFill>
                  <a:srgbClr val="ffffff"/>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Corbe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497B-6AF9-4DFA-B592-4BBFAB198B70}" type="slidenum">
              <a:rPr b="0" lang="en-US" sz="1200" spc="-1" strike="noStrike">
                <a:solidFill>
                  <a:srgbClr val="ffffff"/>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Corbe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9D6F-5FDD-45B6-BA9A-D6F7173C2289}" type="slidenum">
              <a:rPr b="0" lang="en-US" sz="1200" spc="-1" strike="noStrike">
                <a:solidFill>
                  <a:srgbClr val="3f3f3f"/>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Corbe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29C3-46A9-451D-B930-55565884C118}" type="slidenum">
              <a:rPr b="0" lang="en-US" sz="1200" spc="-1" strike="noStrike">
                <a:solidFill>
                  <a:srgbClr val="3f3f3f"/>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Corbe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8CC6-C4BA-406D-8281-A668345E274E}" type="slidenum">
              <a:rPr b="0" lang="en-US" sz="1200" spc="-1" strike="noStrike">
                <a:solidFill>
                  <a:srgbClr val="3f3f3f"/>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Corbe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9D47-8611-46C3-A505-B1B49AF07F3F}" type="slidenum">
              <a:rPr b="0" lang="en-US" sz="1200" spc="-1" strike="noStrike">
                <a:solidFill>
                  <a:srgbClr val="3f3f3f"/>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3" descr=""/>
          <p:cNvPicPr/>
          <p:nvPr/>
        </p:nvPicPr>
        <p:blipFill>
          <a:blip r:embed="rId1"/>
          <a:stretch/>
        </p:blipFill>
        <p:spPr>
          <a:xfrm>
            <a:off x="189000" y="152280"/>
            <a:ext cx="8504280" cy="1262160"/>
          </a:xfrm>
          <a:prstGeom prst="rect">
            <a:avLst/>
          </a:prstGeom>
          <a:ln w="0">
            <a:noFill/>
          </a:ln>
        </p:spPr>
      </p:pic>
      <p:sp>
        <p:nvSpPr>
          <p:cNvPr id="30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ow would you feel about have a longer school day, attending for an additional 1-2 hours each day so that the school would only have to be open 4 days each week?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rite at least 5 lines explaining your opinion and how you would be affected.</a:t>
            </a:r>
            <a:endParaRPr b="0" lang="en-US" sz="3200" spc="-1" strike="noStrike">
              <a:solidFill>
                <a:srgbClr val="000000"/>
              </a:solidFill>
              <a:latin typeface="Corbel"/>
            </a:endParaRPr>
          </a:p>
        </p:txBody>
      </p:sp>
      <p:pic>
        <p:nvPicPr>
          <p:cNvPr id="305" name="Picture 2" descr="http://www.hazletoncity.org/public/images/stories/city/high-school.jpg"/>
          <p:cNvPicPr/>
          <p:nvPr/>
        </p:nvPicPr>
        <p:blipFill>
          <a:blip r:embed="rId2"/>
          <a:stretch/>
        </p:blipFill>
        <p:spPr>
          <a:xfrm>
            <a:off x="5029200" y="4772160"/>
            <a:ext cx="3886200" cy="20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89000" y="146160"/>
            <a:ext cx="8504280" cy="1261800"/>
          </a:xfrm>
          <a:prstGeom prst="rect">
            <a:avLst/>
          </a:prstGeom>
          <a:ln w="0">
            <a:noFill/>
          </a:ln>
        </p:spPr>
      </p:pic>
      <p:sp>
        <p:nvSpPr>
          <p:cNvPr id="307" name=""/>
          <p:cNvSpPr txBox="1"/>
          <p:nvPr/>
        </p:nvSpPr>
        <p:spPr>
          <a:xfrm>
            <a:off x="457200" y="1773000"/>
            <a:ext cx="4038480" cy="4624200"/>
          </a:xfrm>
          <a:prstGeom prst="rect">
            <a:avLst/>
          </a:prstGeom>
          <a:noFill/>
          <a:ln w="0">
            <a:noFill/>
          </a:ln>
        </p:spPr>
        <p:txBody>
          <a:bodyPr rIns="90000" tIns="91440" bIns="4680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ssume your car has a 15 gallon gas tank.  If the average cost of a gallon of gasoline increases from $2.10 to $3.00, calculate how much more it will cost you to fill your car with gas each month, assuming that you fill your car once each week and there are 4 weeks in each month.</a:t>
            </a:r>
            <a:endParaRPr b="0" lang="en-US" sz="2400" spc="-1" strike="noStrike">
              <a:solidFill>
                <a:srgbClr val="000000"/>
              </a:solidFill>
              <a:latin typeface="Corbel"/>
            </a:endParaRPr>
          </a:p>
        </p:txBody>
      </p:sp>
      <p:pic>
        <p:nvPicPr>
          <p:cNvPr id="308" name="Rectangle 4" descr=""/>
          <p:cNvPicPr/>
          <p:nvPr/>
        </p:nvPicPr>
        <p:blipFill>
          <a:blip r:embed="rId2"/>
          <a:stretch/>
        </p:blipFill>
        <p:spPr>
          <a:xfrm>
            <a:off x="5303880" y="2451240"/>
            <a:ext cx="3108240" cy="283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08"/>
                                        </p:tgtEl>
                                        <p:attrNameLst>
                                          <p:attrName>style.visibility</p:attrName>
                                        </p:attrNameLst>
                                      </p:cBhvr>
                                      <p:to>
                                        <p:strVal val="visible"/>
                                      </p:to>
                                    </p:set>
                                    <p:animEffect filter="dissolve" transition="in">
                                      <p:cBhvr additive="repl">
                                        <p:cTn id="7"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46160"/>
            <a:ext cx="8504280" cy="1261800"/>
          </a:xfrm>
          <a:prstGeom prst="rect">
            <a:avLst/>
          </a:prstGeom>
          <a:ln w="0">
            <a:noFill/>
          </a:ln>
        </p:spPr>
      </p:pic>
      <p:sp>
        <p:nvSpPr>
          <p:cNvPr id="310" name=""/>
          <p:cNvSpPr txBox="1"/>
          <p:nvPr/>
        </p:nvSpPr>
        <p:spPr>
          <a:xfrm>
            <a:off x="457200" y="1773000"/>
            <a:ext cx="4038480" cy="4624200"/>
          </a:xfrm>
          <a:prstGeom prst="rect">
            <a:avLst/>
          </a:prstGeom>
          <a:noFill/>
          <a:ln w="0">
            <a:noFill/>
          </a:ln>
        </p:spPr>
        <p:txBody>
          <a:bodyPr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Home heating bills typically rise during the winter months.  Experts predict this cost to rise up to 44% in some areas.  Calculate how much this increase will amount to each month if your typical home heating bill was $150 per month last winter.</a:t>
            </a:r>
            <a:endParaRPr b="0" lang="en-US" sz="2400" spc="-1" strike="noStrike">
              <a:solidFill>
                <a:srgbClr val="000000"/>
              </a:solidFill>
              <a:latin typeface="Corbel"/>
            </a:endParaRPr>
          </a:p>
        </p:txBody>
      </p:sp>
      <p:pic>
        <p:nvPicPr>
          <p:cNvPr id="311" name="Rectangle 4" descr=""/>
          <p:cNvPicPr/>
          <p:nvPr/>
        </p:nvPicPr>
        <p:blipFill>
          <a:blip r:embed="rId2"/>
          <a:stretch/>
        </p:blipFill>
        <p:spPr>
          <a:xfrm>
            <a:off x="5303880" y="2451240"/>
            <a:ext cx="3138480" cy="28335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311"/>
                                        </p:tgtEl>
                                        <p:attrNameLst>
                                          <p:attrName>style.visibility</p:attrName>
                                        </p:attrNameLst>
                                      </p:cBhvr>
                                      <p:to>
                                        <p:strVal val="visible"/>
                                      </p:to>
                                    </p:set>
                                    <p:animEffect filter="dissolve" transition="in">
                                      <p:cBhvr additive="repl">
                                        <p:cTn id="14"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46160"/>
            <a:ext cx="8504280" cy="1261800"/>
          </a:xfrm>
          <a:prstGeom prst="rect">
            <a:avLst/>
          </a:prstGeom>
          <a:ln w="0">
            <a:noFill/>
          </a:ln>
        </p:spPr>
      </p:pic>
      <p:pic>
        <p:nvPicPr>
          <p:cNvPr id="313" name="Rectangle 2" descr=""/>
          <p:cNvPicPr/>
          <p:nvPr/>
        </p:nvPicPr>
        <p:blipFill>
          <a:blip r:embed="rId2"/>
          <a:stretch/>
        </p:blipFill>
        <p:spPr>
          <a:xfrm>
            <a:off x="23760" y="1517760"/>
            <a:ext cx="6211800" cy="1768320"/>
          </a:xfrm>
          <a:prstGeom prst="rect">
            <a:avLst/>
          </a:prstGeom>
          <a:ln w="0">
            <a:noFill/>
          </a:ln>
        </p:spPr>
      </p:pic>
      <p:pic>
        <p:nvPicPr>
          <p:cNvPr id="314" name="Rectangle 3" descr=""/>
          <p:cNvPicPr/>
          <p:nvPr/>
        </p:nvPicPr>
        <p:blipFill>
          <a:blip r:embed="rId3"/>
          <a:stretch/>
        </p:blipFill>
        <p:spPr>
          <a:xfrm>
            <a:off x="5748480" y="2097000"/>
            <a:ext cx="3182760" cy="1809720"/>
          </a:xfrm>
          <a:prstGeom prst="rect">
            <a:avLst/>
          </a:prstGeom>
          <a:ln w="0">
            <a:noFill/>
          </a:ln>
        </p:spPr>
      </p:pic>
      <p:pic>
        <p:nvPicPr>
          <p:cNvPr id="315" name="Rectangle 4" descr=""/>
          <p:cNvPicPr/>
          <p:nvPr/>
        </p:nvPicPr>
        <p:blipFill>
          <a:blip r:embed="rId4"/>
          <a:stretch/>
        </p:blipFill>
        <p:spPr>
          <a:xfrm>
            <a:off x="755640" y="3303720"/>
            <a:ext cx="7645320" cy="27921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314"/>
                                        </p:tgtEl>
                                        <p:attrNameLst>
                                          <p:attrName>style.visibility</p:attrName>
                                        </p:attrNameLst>
                                      </p:cBhvr>
                                      <p:to>
                                        <p:strVal val="visible"/>
                                      </p:to>
                                    </p:set>
                                    <p:animEffect filter="dissolve" transition="in">
                                      <p:cBhvr additive="repl">
                                        <p:cTn id="21" dur="1000"/>
                                        <p:tgtEl>
                                          <p:spTgt spid="31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407880" y="23760"/>
            <a:ext cx="8450280" cy="140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he year is 2040 and Americans are in trouble.  The world’s supply of fossil fuels is being rapidly depleted.  As a result, drivers are paying $20 per gallon for gasoline, and the cost of heating &amp; cooling homes, businesses, and schools has forced many public buildings to close because of their inability to pay for energy.  Families &amp; industry are suffering as well.  Goods can’t be transported across the country, and many people must endure extreme heat &amp; cold because energy costs are so high.  Add to this the ill health of the Earth’s environment, ravaged for years by greenhouse gases &amp; the effects of global warming.  The situation is critical.  Alternative energy sources must be developed so that Americans can have reliable, efficient, environmentally friendly ways to run their cars, power their manufacturing plants, and heat and cool their businesses, schools, and homes.</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89000" y="152280"/>
            <a:ext cx="8504280" cy="126216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You and your partner(s) are scientists who have been instructed to find ways to solve the energy crisis being faced by the U.S.  You will be assigned a specific task related to solving this nationwide crisis.  It will be up to you and your partner(s) to research, design, and teach others about an alternative form of energy that can be used to safely meet the energy demands of the population without an extremely high price or further damage to the environment.</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23:47:24Z</dcterms:created>
  <dc:creator>Jason</dc:creator>
  <dc:description/>
  <dc:language>en-US</dc:language>
  <cp:lastModifiedBy>Jason</cp:lastModifiedBy>
  <dcterms:modified xsi:type="dcterms:W3CDTF">2009-04-21T00:34:42Z</dcterms:modified>
  <cp:revision>6</cp:revision>
  <dc:subject/>
  <dc:title>Please Do Now</dc:title>
</cp:coreProperties>
</file>